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158-E2E0-4D54-94F2-2FE7CB8C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0C4-526F-4B9B-A62A-3F27426A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E17AC-0144-4839-8766-3A191D7D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CAD85-4C71-414C-AAE7-7AF1622A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9B498-176B-4EBE-8E95-1C9EAB3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342EE-5172-431D-8A6E-D9287A5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0CCDF-B188-4DC1-971F-3A7F3474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8E063-AF1E-4494-BF13-2E29957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63A80-FB81-4289-AA35-54C4EFC0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C91C3-12B3-4E43-B10D-F1C971B1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5A929-06A6-4609-9B28-53B507E9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737AA-C53A-483C-AF14-96629B7F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1E5-E30E-445F-AB8F-0416F4F8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38888-4C24-4AFC-9785-C209CB6D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5EF89-A762-4EAE-B3BA-70FE72A5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894ED-A29E-43ED-A498-B94DB210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2EB9E-7479-4AEB-83A2-DB6E0294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77A34-CE3B-444D-AC55-027304FC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AB872-34BB-4706-8D0C-95472F3D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FEB6B-B9B4-4C0D-BEFB-93A0DD5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0DBDD-1806-4A51-BFD0-A86C1F23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E61BB-B0E3-4C8C-8883-3B468545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F41D3-C984-4F1F-BF19-C30C3BDC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699-1031-43CB-A486-2E44333E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8A0B7-79D3-4BEE-B4C8-5EC81A9D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A7119-71B4-472F-A968-F6FA11AB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3FA1B-5B93-4F03-9843-AC83653F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4BB96-40C8-41E3-90B0-89239DD0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8171D-E6C6-4FC3-8E12-AE9B07E4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94071-63D7-4AEA-8BA3-4B053523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557EC-33DE-4DD4-8035-A1D3D5AE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FF162-5564-4BE8-BC78-B5B8666A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47EBF-1632-447F-AD22-52455DE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8A3E3-3C3D-4D0D-9B08-D43EF60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0183-A791-494E-BBB1-5E54D234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A8CFD-5B0D-4613-AE02-42A2551D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E35EE-96A1-49E9-955A-DBA540A5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00F60-B176-47C6-BCFA-D4A84777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BED84-8F6D-4E47-9ED9-01D1EA3A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08A2F-85A8-453C-B27E-35D9B421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37B42-57D6-4A39-9E49-0CFAD2E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1212C-5ACD-40E5-A238-E7F26444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E1306-30C4-477A-9E7F-54B073D9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8034C-23C0-4729-A7E1-E5A849BB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A39E4-F472-41B4-BE35-09F661F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31D6-9DEE-4282-AE02-40F2AD67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41ED9-1674-4CEE-B31A-5B5F24E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EA63A-0136-4B4E-9282-BFF0BBAE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4ED62-00D1-4B8F-9308-94A553F4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3402C-01A1-479C-9691-FB976D23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D55AD-6E68-4589-8EEA-FDA5C300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A35D3-70EC-4947-B01E-8B567125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F117F-0CB1-4EBD-866C-BE16599B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483FE-1B88-4C40-9819-F271B8BE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12A35-58E4-424C-9BB0-37367A1A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847F3-A1B3-46AB-90DD-28EEE870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8DFD-6774-4AB0-9E13-370B87B7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2D645-BEB7-4F3B-81AE-8B32DD21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C39B9-D106-4DB8-A78D-BF5B203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CD167-BD66-464D-817B-2E41CCD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B1873-1702-4E78-8FF9-DB7CA411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1F156-1E75-45E1-93F3-E1359318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3E45A-007F-40E2-A5CE-8DF309AF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B353E-7D56-44FF-AF51-8090BD11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C8E8B-0AE5-45B2-A97C-B8039215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66784-D466-4A84-AAF9-8C2FE296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5B301-3951-4234-9802-45AC03D0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0BE6-5909-4553-8F2F-042E4E19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20DE8-3711-484E-AC52-99A469D6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F394D-022A-4379-915E-F6D83C41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72B99-6BB9-4F30-804E-70E1BA1D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0D064-9633-40EF-8E85-D23C6965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B93C2-013C-4ABB-829E-0DA8887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E165E-1CE5-47C3-836E-E840C937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B45E33-D0B1-4D4C-A072-04CD695A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EA53B-B0C1-4D1B-96ED-13C23D94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8F90A-A74E-4EC7-9DE0-AA99489F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36905-32DC-4DDF-BC39-995D1D1D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C69C-F627-4E8E-BE4A-F4A1745E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B2FCD-AF63-46AB-AA87-1F44640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AC109-4A2C-4FF4-8E8C-5CB7B111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EA973-6F2F-442A-A5D7-F7FC6BAC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A4F2F2-8A5F-425D-BD8D-0F41B31C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5C085-C287-4279-B4F1-514BEF77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1ABCF-C6FD-4211-9AAD-DB8AEBD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756AF-D7CE-4068-88F9-D1F7D9C7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B7BCB-0CED-494E-851B-476BC31E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599BD-C4BA-4949-BACB-46387E2B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096E1-1318-4008-B948-8234DF49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71DF-73D8-400A-A43E-E462F5BD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A3107-EB3A-46C5-8324-FD943760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78EAC-FA3A-4B63-B24F-53E32155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4E8973-57B5-4834-AB3F-EAE3471D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05CC4-5B3E-4E27-A7F3-3CE36962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0DFB2-D917-401E-A996-CDC16E70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DCD66-159D-489C-9715-9BCC761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9207F-5A43-4103-A93E-606E100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46808-AE0C-452D-B2D1-4FC5B34C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14E3A-57A0-4B45-8493-7BC8338E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F646A-F2CA-4FAF-8C5C-6DC9D01A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465E-6EBD-402C-A392-F1A5083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E0EE1B-A041-463E-B232-29465363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AFC60-ADB7-4E7A-B1AA-36E37F10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20502-882B-47EB-A35C-F5467895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DA1DD-1C7E-49F3-BFE7-16AA11AC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C7137-EE9A-4401-A4A1-FBF34144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BC035-1598-4C84-8500-02DF2666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D9500-E422-4FC9-9C8A-5DA3127A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0528F1-AACE-4740-BC7D-C3F745AF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04B54-777C-47B1-9390-7429769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99B2F-0585-4B90-AAC0-B3398CF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6BD-5CDF-4012-AE77-8AD1C22E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0376-4685-4680-90BD-55A777B8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42A4E-704B-42A7-B7E9-025D4B0B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AA57D-5D7A-4A59-BCAD-AC057327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A016F-AE9D-49A7-B6CF-50DBE497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092D2-DF38-40E2-AF24-902B1F56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4581A-BBA4-4540-9CA9-6C6E988E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1CF0E-20B9-44B0-9E23-90FEADF0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A8E3C-6751-4EEB-A8FA-485211C3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AAF7F-7822-46F0-BA27-12284CCB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20C74-69A9-4928-AEDB-D99DD08E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4B1A0-8A87-4180-9907-B9F2A817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4A39-B6A7-43B2-A9EA-B009240C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2E21E-B426-4975-8697-DF78945A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5990B1-BD54-4C91-990F-56CD245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CAD24-5A85-4733-A0DD-2DF81EC1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EADEA-B07F-4D5F-A4DE-A045FFE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E3C5E-65E9-4993-96BF-BE89BBCB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A3A5B-C751-4573-94D0-3AB15D0B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0F4BF-B922-4A9A-97A2-3AE6CF0A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BBF9B-C5D8-42F8-91F5-905F67C9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E753BB-E211-4BE0-AF69-D1A712F2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B7573-B3A5-4B60-ABA6-5B6CDC6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C663-5BC4-4972-AFDB-25AC1CE8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D5B3F9-64FF-4225-BAE5-55A8FDA1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46B91-2EF1-47EC-ADEE-4AD59BB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25897-00D3-450B-816A-EEFB2823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CD1A7-5239-47AE-9790-BC15E18B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C6E67-247B-41C5-A7A7-DE4EDF7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13A685-4E30-44AB-9197-3D6507A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E2A4F-E745-4AF9-9E94-B67B3DA1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A941D-B522-49A7-BCDE-48B9101A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45D77-E370-43B2-A370-22590B9D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D5459-EFC3-43DC-A426-A86A9D79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AE07-1CD6-4523-ADDE-9367BC52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57D66-6DC8-44B3-87A9-035B81C4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806AEA-FD17-4E44-A228-2D28EA2A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BA034-3789-425C-B7BC-7539265A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078E3-0D3C-4627-87E8-EB3B2B77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63BF2-4442-48B2-9EE3-4B6F37C7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0A408-4D8D-4436-84AA-8E711F1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CA71C-8546-4FCE-B8D7-DBE05BDD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786C9-6F38-40B8-9206-1A9DED2B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F2F916-AC7B-49BF-B0A2-A75D4E29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812A0-1F53-4567-B223-F93F60BD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E475-A688-4447-9FF5-637306BB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C9B76-A0C7-4986-812F-8FFCE0CA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6BC22-6433-4E62-82D4-75E66E6E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1145F-DA5B-4EBA-9895-F63E567D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0618A-953F-4003-9D81-563776F4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57C0D7-2A0A-4E40-88AE-117E6CE2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49C5EF-3A84-44C2-ADC5-109007EC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DA694-5367-40C1-9265-4B2CEEF5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880B3-F78B-4C80-99B6-7E667134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4890E-12AA-4CCE-A732-6DE83CA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72448-748A-44F5-884B-8A8B4CF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11A9-7C42-44FB-B70A-B33C2FFA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F8E32-EBF6-41E4-B10D-F1D4B904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A2F4D2-4507-4C32-A5BD-9410DCED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4ACED-8127-42FB-BA5D-CF721B50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16D2A-A630-4539-BF59-27ED1F75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CB38F0-0018-4393-80ED-971955FD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F4F94-D216-4D53-8144-6F0D7A07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64A94-C25C-4726-A01F-D92C3B08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1D7EA7-EC7D-44BD-B758-E2FCB461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12AC8-0C8C-4415-BEAD-0AA22C1F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CDF435-7273-4270-89B0-38D713EF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0C606-04DA-4172-8663-6C73A59F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F214CA-9BEA-49EA-9886-B3316D4E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E14814-16DB-485B-96B1-623EE482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E12C90-6145-4F3E-8276-892160EE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5E9098-62C9-419A-A41A-9531C164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C5D4D5-D486-45D9-AD4A-B5A7A788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1E976-79D2-42EF-9403-3AB7E880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720FC-855C-4CF9-B677-EDB70757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68125D-1292-40C3-A601-F0273EE2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6E5C83-8217-4E2A-B229-0E694C76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D2B812-3FCD-42CB-9ABC-FBF65EB2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C39B-3063-443F-AA9E-0D43463E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ED3B8D-AFE6-4B86-A834-EEBC2FFA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69F68B-69AA-4E4E-9EB9-8344A9A0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3A3850-CB32-443B-91FC-E3CC1A9F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37BD5D-7098-4B8D-9188-7A6EA46C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AED4D7-9B91-49F0-A41E-A25F7F1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85AE0A-C4F3-4780-9C32-672A00C9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8882D1-B287-4A1B-904F-0E439033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54F518-3721-44AC-9D5C-FFCA82F6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CE0E84-FC3B-4488-83D8-589BB07C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E7B2BA-146B-4E06-9CDE-8983C130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ED70-5387-4B72-8D29-1EFECD80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9C69B3-E8E3-40F5-8CEA-748AA65C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643408-8884-4688-8660-ACFC31FE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9863DF-ECE0-4C9C-BBD7-806501C5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A2704A-F591-4218-A750-3F44CA37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E11485-87BE-44E1-BA8E-A695BF7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583A55-2173-406B-95BA-359D8AFE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CAF626-5410-46F0-939E-7C5D5ABB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540A7E-515C-4890-AE36-AE6D9580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F90E00-0BF3-40D8-8513-0DA0B22A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F7ADA0-0EAD-4CC5-BB43-4FB09382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0C85-6ACB-4DF8-ABB2-803FE83D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FA43B5-153E-40F6-9D12-EC48F4F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80D0AA-AA8E-4F95-BAFE-6F80F2FB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E2D363-9312-4A2D-BF77-8E529098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29048A-59F0-4E2C-B98B-0010D43D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48C824-C05D-4F65-8C7B-21697A9E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3B2543-229A-40E4-9F40-948343C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835D43-9E1A-4D3E-9AC3-E29C1FC6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0D5C81-FCA3-415D-82BB-82A1B86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197DC0-51D1-436A-9292-9BAC0194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77F874-C1B5-4B6E-AC31-8F8F6866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C65-B515-4036-9D45-5C41FEAE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18C4-7725-4CBE-8136-F47AFA66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18E73E-28D3-44D0-9D82-B3C781EC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5B77DC-7AD2-4A66-854B-9DFB08B3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86354B-6519-47C5-9ED9-6DB2035E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3A6653-90ED-451F-8E7E-4AFD1BB4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56CB88-AB06-478D-AAA6-7B6E6052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A3B02B-37BF-4715-BA65-D06D792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A4C78E-BF01-4495-A84D-785B7C25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FD1692-4735-453F-AB14-E7F4162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94FAC1-5203-4069-8646-CE2BCFB9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56F260-D8A2-45B9-9690-77B5B3AA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D8D3-97D0-492D-93D8-CBAFCDD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00CD1E-C39E-4EF2-82DC-5AFC4F27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C73354-371C-4260-B339-03E67F92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8EC4F7-29AE-4E76-8BAC-F01D7B0D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9A5F07-BE2E-4105-AAFE-89F7F717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762A80-7199-4A36-B221-32964890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A72E30-791D-4E5E-A6E6-5B6D6B42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60E196-DA8D-48A6-BC53-95F61BF5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E4D6ED-27D8-48FF-BDAB-4B06F382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4E606D-B962-48A8-8B23-15A0D511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9D7F11-FDAA-434B-A54E-320581A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196CE-9C86-42CA-9C66-ABA66ED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81E29C-3B43-4B5D-B0A6-A9224B3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7D85B1-F3C5-4508-B315-4B9B5060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74B395-A8B6-426C-A69F-A6E3AD0A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13DF1E-27F9-4851-BE4C-200A3449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05ED00-C0DB-4F87-AEA7-5111A09A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39C4C0-D175-4568-B6A4-EF58A4AF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3FCC74-F05D-407D-9C40-220A6DE2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12425B-0E3F-47A7-B572-61ACDAF6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466C29-6478-4635-AC3A-8887FCB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901F1E-0853-4A45-AFB1-A6268C49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4FB4-41AD-4435-81DA-5C2962EF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DF5A40-4A58-4938-8266-91A6691A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EC518E-42E5-4597-B511-DD2F376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CD269C-A71C-4060-9C05-EBBDB93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FD370F-3361-4B8D-BA9F-272282A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E189EC-5FC3-4660-97A2-CED5DC2D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1831A0-2703-4DD0-A507-E79C3A25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49E29A-3446-443B-A4B0-453C2709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3A1044-2919-49D9-B687-FFA827AF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FA7587-84D5-4CA2-9EF1-A6AD8F46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F85A56-3044-4E62-BE0D-FC37DDB8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7E8C-D664-4870-AA96-93E8F725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51A6EB-5E67-4FA8-A793-8F6CDB00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161510-46CD-4EC9-92FA-30545B32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E87247-A4C8-414C-8CAB-C1641421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6FA161-AEB6-47D9-801B-E4C5643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210A1B-B388-4F26-9EB6-48CCAFD0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81AC76-B261-4B5F-9BF8-0B866AF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2BD3CB-61D1-48FD-AD7B-E2C957CE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317B57-9175-47BF-A2B7-940A7AA7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8FF8C2-8403-4611-B595-C839AF4B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B2FCC6-77C3-44BC-B4B9-8EDB6372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AEC0-E374-4CD7-A1D2-0C3FBFF9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EA32E2-A72A-4377-B3B5-BE4698D4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437FA9-F0DD-4F6B-85F3-74548418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1AB8D9-EF8E-449E-912E-DFC16FC8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D4B246-6FA5-43AA-A7E9-B332E516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1EF5D1-6CE1-4DD2-B45E-F07CB305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020704-7FF1-420B-97B0-0127C802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C37A21-D736-43C6-9A6C-C304615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833C59-73A9-425C-8863-88F4D54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C0764F-BDB0-4E1F-88A3-88599D43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73CDCF-6F6B-4ED8-A12B-7502EA61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90B3-8FCF-4336-8978-20B3BA93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7FF568-D2FA-41A8-95A9-AA58B38D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72E894-167B-4614-B3C0-62D60A45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4014B3-539E-41B1-8F26-184CD21C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C8D42F-44E5-4F18-BD05-37BA81F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A1BED2-8914-41B2-8B38-DE372C8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52A182-A11F-47C3-B250-35FCA75A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CB5FFF-392C-4F4A-94AC-189499E1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D72E1B-1F83-4F27-A538-AF67345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A87CB3-326D-4639-8D1E-1580000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A42C8B-1C0F-4CFB-A7C0-A525810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DF20-110A-49C6-A226-2D31D7AD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4962AC-82EE-439D-B272-DBE52616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AC9B60-9E77-49F7-9251-5482D32C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FF8DA1-7078-4919-B895-BCC08115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A601-9080-4D4E-8454-680F4D63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36C0-1C7D-4636-8E8D-1A312DFF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0B4-82DA-4CA4-91B7-30D6DABD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8FDD-F1D0-4AF2-AAB7-A03B62AA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22DDC-6EBC-42CF-B604-804B1221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317D-EE81-49DD-8680-880ECCD4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06009-F564-40BE-A6B6-E7EA1817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2C47-6AC8-4101-9F01-55AD268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6753-D7FD-4FE1-8EDD-6332245B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DD03-6910-419F-8AF3-B2DD070C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AFED-E40E-4B5F-80F6-9E4D36D4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0CAE-C4D2-4832-9277-EDB98919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1504B-F571-4B98-8B72-D2839C69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2A1-C20C-4E20-9FC4-99ED41F9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B6C23-62A1-43FC-92C2-06835CAB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4FFA-A439-48A4-B5D4-4B06EE4D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B40E-A9B9-4BD7-8778-29D98DCB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46040-318C-4B71-B6B8-0DBE53BC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505EB-F1DC-42F8-A612-E12056DF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BF076-7573-464A-A3B2-47ADE2A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463A-9A02-4571-ADE3-439B57C3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E30FE-B7A8-49C4-89C7-610D17F0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B7FE5-7525-430E-ACD3-645C7E3C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5E4B9-D4B5-4C3C-AA93-653F383A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08F-A439-412F-BC6A-53A11FAA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87006-8FAA-42D1-8843-3DD4AF6D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A4FF7-14EA-4165-BC61-C059B841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55B3-184D-4410-BC43-4C4C5640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F561F-DA4F-4F00-B778-B8CCFDE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45E0-18AB-4C53-97EC-F129521C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9E2BD-40F5-49D5-9267-A24496A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B33EE-1E54-4FEA-AD0D-FD0897A0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07971-7224-44CC-8C80-2A59E15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85B6-9648-4108-BB17-4FE6AEA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1F4F1-F094-483D-B5AB-5BF420D6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EBE-8294-40E3-95D6-03173CC5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7B35-8637-4D03-B095-3766EBED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6C5D6-C963-4D8E-83D2-564E1F20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A3F78-759F-4BAC-B14E-7F2F8440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2B2DC-8A78-4452-A433-61C2DC00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48F85-D03D-4C0F-B42A-7710039F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3A553-FC37-456F-9480-A574DCCA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CB2A7-CED7-4F74-9E7A-A407ADC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DF6D0-9F97-484D-8656-1CB296C0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6A44D-8755-4745-BE60-EDDD3947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3B654-CC72-4207-92F6-3397595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9D9-1FFD-4ADA-BE18-166E1CC7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9ADC1-D58D-4AE2-8196-13FF6144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EEAE2-F0B7-4930-93EE-B756FA2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868BD-DC27-487D-969D-C6300B00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36174-2C29-459C-A72C-AF000CE1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46454-0742-4C9B-ADEB-7CB2D44D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14AF9-D832-4E00-B7E9-62DD5F9F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DB48B-A478-4713-B2AF-5C1973EE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3E6D9-0325-4E76-857D-03ABBFAF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60C5D-0DE3-415E-9747-BAE9B6A7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A0DC-F4C9-4556-B6D1-BC7093AD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8CA-3D2A-4F41-B800-BB5EF9E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C31AC-09C4-43B9-956F-89F0524B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3CA87-85FD-453A-A94D-B2A3A4D9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92E8B-C74E-4250-82AA-208C6EA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58325-6877-48AE-8A13-BD0CA531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11EF2-B595-4BA4-8A46-C8BF65DD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1F4CB-3E19-41F5-ADD4-B7AAE4CE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7E3B6-4E06-4053-AD48-B2B05D4D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3E754-94E6-43A5-A8FB-49F015EC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9C86E-C8C7-43C8-8E17-2D215A8D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E49EE-8999-47E2-BA7F-253808D5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A047-C8E1-485A-B788-CC8703CACB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07B9-E5FD-4B87-A901-BD166EC2C5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6BD8-05B4-499E-9B0C-F94666856B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2310-16BB-4501-B093-22E77B6CEE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54C-A01A-495C-B2B7-4A0FED8D27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90AE-C7CA-4D99-9819-6C1B7B098B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1199-C2FD-40F0-AB0A-2E947F465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A98D-B42A-4402-B709-44D491F511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464C-99F0-4C9B-BB36-16DE4D0139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92BD-51EA-4143-B0A4-A64B6844D1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EF11-CA31-4EE3-A9D8-8CEBE4FD6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5732-1F10-4A5F-AF41-160DF22E5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130D-05F6-4435-AB14-5FB29D58F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2B4-E6A5-4ACF-959F-D9E08C3367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0096-B938-41AA-919C-15566AC44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05EE-DEBE-4531-AADC-DE887AADB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C0D6-996D-4AE4-B04D-7B30424494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DB19-2DCB-43F6-B90B-1A463B9E60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9241-1CCB-4015-9D6B-A77AC3413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A63A-8CAB-4B3A-A912-467ACF6CB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C6DB-0813-487A-9BCA-FB0B7F99C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06E9-B8BE-4676-9547-81F54B6BA4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13FD-3243-4AD6-B744-29978A3461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DD21-0DF4-4CFF-BB8E-0038CA13F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C287-6E07-452B-83E2-0AF499D88D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96D-E21F-4ADB-8D7B-4C5587CAD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6C6-2C4D-431C-81B9-A52AE9E846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2857-AFAC-44FB-B46D-0660AF352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FC2C-6117-4101-B0FF-005982CA3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5BBA-75A4-42E5-9A1B-5819CD8F60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4E67-CA30-4AC2-81DE-099CF0E3BA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6BC3-2D41-4BEE-9D71-90872F57F1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4A6-C777-4BE8-BBF9-08BF2F789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4871-F270-4B32-90D6-159F5CAE5E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BA9E-ACC0-4F28-9B51-ED9EF8508F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35E7-393E-4C18-ACE5-1795E9592F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620C-27A9-41B6-9C15-94FAC08154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716D-1884-46AF-B6EA-3F18825D1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77D5-762B-4A52-A413-4569D1047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540D-1BF2-4123-B3BF-516AED5E9F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BAA4-6F35-4860-917B-494EB4A371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2791-A188-413D-8A71-02848C512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21F1-4C49-4F2D-8996-A9FA706AB3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3EE-FA47-41BE-B120-2A09015F4A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17B-A697-43B1-AECD-6D05087A5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7158-8B96-42D7-935A-978D182B40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D4EC-24B8-40B2-985A-8C348FF16C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19E3-559E-439A-92B6-18AB89B4DE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9A68-4FE3-481C-AA69-5497B3B894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ACDC-A5C6-492A-838E-4030CBCD8F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746280" y="1917720"/>
            <a:ext cx="7715160" cy="11714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36766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79873" descr=""/>
          <p:cNvPicPr/>
          <p:nvPr/>
        </p:nvPicPr>
        <p:blipFill>
          <a:blip r:embed="rId1"/>
          <a:stretch/>
        </p:blipFill>
        <p:spPr>
          <a:xfrm>
            <a:off x="847800" y="1419120"/>
            <a:ext cx="7448400" cy="4019760"/>
          </a:xfrm>
          <a:prstGeom prst="rect">
            <a:avLst/>
          </a:prstGeom>
          <a:ln w="0">
            <a:noFill/>
          </a:ln>
        </p:spPr>
      </p:pic>
      <p:sp>
        <p:nvSpPr>
          <p:cNvPr id="1483" name="矩形 79874"/>
          <p:cNvSpPr/>
          <p:nvPr/>
        </p:nvSpPr>
        <p:spPr>
          <a:xfrm>
            <a:off x="4141800" y="3738600"/>
            <a:ext cx="87156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79875"/>
          <p:cNvSpPr/>
          <p:nvPr/>
        </p:nvSpPr>
        <p:spPr>
          <a:xfrm>
            <a:off x="1116000" y="4292640"/>
            <a:ext cx="987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79876"/>
          <p:cNvSpPr/>
          <p:nvPr/>
        </p:nvSpPr>
        <p:spPr>
          <a:xfrm>
            <a:off x="5867280" y="4292640"/>
            <a:ext cx="120672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79877"/>
          <p:cNvSpPr/>
          <p:nvPr/>
        </p:nvSpPr>
        <p:spPr>
          <a:xfrm>
            <a:off x="2124000" y="4869000"/>
            <a:ext cx="9874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78849" descr=""/>
          <p:cNvPicPr/>
          <p:nvPr/>
        </p:nvPicPr>
        <p:blipFill>
          <a:blip r:embed="rId1"/>
          <a:stretch/>
        </p:blipFill>
        <p:spPr>
          <a:xfrm>
            <a:off x="576360" y="1019160"/>
            <a:ext cx="7991280" cy="4819680"/>
          </a:xfrm>
          <a:prstGeom prst="rect">
            <a:avLst/>
          </a:prstGeom>
          <a:ln w="0">
            <a:noFill/>
          </a:ln>
        </p:spPr>
      </p:pic>
      <p:sp>
        <p:nvSpPr>
          <p:cNvPr id="1488" name="矩形 78850"/>
          <p:cNvSpPr/>
          <p:nvPr/>
        </p:nvSpPr>
        <p:spPr>
          <a:xfrm>
            <a:off x="6084720" y="4149720"/>
            <a:ext cx="51912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78851"/>
          <p:cNvSpPr/>
          <p:nvPr/>
        </p:nvSpPr>
        <p:spPr>
          <a:xfrm>
            <a:off x="3780000" y="4724280"/>
            <a:ext cx="4787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78852"/>
          <p:cNvSpPr/>
          <p:nvPr/>
        </p:nvSpPr>
        <p:spPr>
          <a:xfrm>
            <a:off x="1619280" y="5373720"/>
            <a:ext cx="5191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图片 77825" descr=""/>
          <p:cNvPicPr/>
          <p:nvPr/>
        </p:nvPicPr>
        <p:blipFill>
          <a:blip r:embed="rId1"/>
          <a:stretch/>
        </p:blipFill>
        <p:spPr>
          <a:xfrm>
            <a:off x="833400" y="1438200"/>
            <a:ext cx="7477200" cy="3981600"/>
          </a:xfrm>
          <a:prstGeom prst="rect">
            <a:avLst/>
          </a:prstGeom>
          <a:ln w="0">
            <a:noFill/>
          </a:ln>
        </p:spPr>
      </p:pic>
      <p:sp>
        <p:nvSpPr>
          <p:cNvPr id="1492" name="矩形 77826"/>
          <p:cNvSpPr/>
          <p:nvPr/>
        </p:nvSpPr>
        <p:spPr>
          <a:xfrm>
            <a:off x="6659640" y="3141720"/>
            <a:ext cx="159552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77827"/>
          <p:cNvSpPr/>
          <p:nvPr/>
        </p:nvSpPr>
        <p:spPr>
          <a:xfrm>
            <a:off x="1332000" y="3716280"/>
            <a:ext cx="24606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77828"/>
          <p:cNvSpPr/>
          <p:nvPr/>
        </p:nvSpPr>
        <p:spPr>
          <a:xfrm>
            <a:off x="6659640" y="4941720"/>
            <a:ext cx="73332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7680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91640" cy="5926320"/>
          </a:xfrm>
          <a:prstGeom prst="rect">
            <a:avLst/>
          </a:prstGeom>
          <a:ln w="0">
            <a:noFill/>
          </a:ln>
        </p:spPr>
      </p:pic>
      <p:sp>
        <p:nvSpPr>
          <p:cNvPr id="1496" name="矩形 76802"/>
          <p:cNvSpPr/>
          <p:nvPr/>
        </p:nvSpPr>
        <p:spPr>
          <a:xfrm>
            <a:off x="5208480" y="3005280"/>
            <a:ext cx="75744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857320" cy="714600"/>
          </a:xfrm>
          <a:prstGeom prst="rect">
            <a:avLst/>
          </a:prstGeom>
          <a:ln w="0">
            <a:noFill/>
          </a:ln>
        </p:spPr>
      </p:pic>
      <p:pic>
        <p:nvPicPr>
          <p:cNvPr id="1435" name="图片 88066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362800" cy="425772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8067"/>
          <p:cNvSpPr/>
          <p:nvPr/>
        </p:nvSpPr>
        <p:spPr>
          <a:xfrm>
            <a:off x="4645080" y="1863720"/>
            <a:ext cx="5364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8"/>
          <p:cNvSpPr/>
          <p:nvPr/>
        </p:nvSpPr>
        <p:spPr>
          <a:xfrm>
            <a:off x="2268360" y="2276640"/>
            <a:ext cx="63216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69"/>
          <p:cNvSpPr/>
          <p:nvPr/>
        </p:nvSpPr>
        <p:spPr>
          <a:xfrm>
            <a:off x="3419640" y="2276640"/>
            <a:ext cx="536400" cy="34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0"/>
          <p:cNvSpPr/>
          <p:nvPr/>
        </p:nvSpPr>
        <p:spPr>
          <a:xfrm>
            <a:off x="5219640" y="2276640"/>
            <a:ext cx="709560" cy="34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1"/>
          <p:cNvSpPr/>
          <p:nvPr/>
        </p:nvSpPr>
        <p:spPr>
          <a:xfrm>
            <a:off x="3851280" y="2708280"/>
            <a:ext cx="487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2"/>
          <p:cNvSpPr/>
          <p:nvPr/>
        </p:nvSpPr>
        <p:spPr>
          <a:xfrm>
            <a:off x="6156360" y="2708280"/>
            <a:ext cx="350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3"/>
          <p:cNvSpPr/>
          <p:nvPr/>
        </p:nvSpPr>
        <p:spPr>
          <a:xfrm>
            <a:off x="7020000" y="2708280"/>
            <a:ext cx="3506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4"/>
          <p:cNvSpPr/>
          <p:nvPr/>
        </p:nvSpPr>
        <p:spPr>
          <a:xfrm>
            <a:off x="7885080" y="2708280"/>
            <a:ext cx="3510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5"/>
          <p:cNvSpPr/>
          <p:nvPr/>
        </p:nvSpPr>
        <p:spPr>
          <a:xfrm>
            <a:off x="2556000" y="3500280"/>
            <a:ext cx="6523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6"/>
          <p:cNvSpPr/>
          <p:nvPr/>
        </p:nvSpPr>
        <p:spPr>
          <a:xfrm>
            <a:off x="8317080" y="3500280"/>
            <a:ext cx="4870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8081"/>
          <p:cNvSpPr/>
          <p:nvPr/>
        </p:nvSpPr>
        <p:spPr>
          <a:xfrm>
            <a:off x="1042920" y="3933720"/>
            <a:ext cx="6526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8082"/>
          <p:cNvSpPr/>
          <p:nvPr/>
        </p:nvSpPr>
        <p:spPr>
          <a:xfrm>
            <a:off x="4500720" y="3860640"/>
            <a:ext cx="124920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8083"/>
          <p:cNvSpPr/>
          <p:nvPr/>
        </p:nvSpPr>
        <p:spPr>
          <a:xfrm>
            <a:off x="7020000" y="4653000"/>
            <a:ext cx="65232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8084"/>
          <p:cNvSpPr/>
          <p:nvPr/>
        </p:nvSpPr>
        <p:spPr>
          <a:xfrm>
            <a:off x="2268360" y="5084640"/>
            <a:ext cx="6526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8085"/>
          <p:cNvSpPr/>
          <p:nvPr/>
        </p:nvSpPr>
        <p:spPr>
          <a:xfrm>
            <a:off x="6300720" y="5084640"/>
            <a:ext cx="1160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8086"/>
          <p:cNvSpPr/>
          <p:nvPr/>
        </p:nvSpPr>
        <p:spPr>
          <a:xfrm>
            <a:off x="8172360" y="5084640"/>
            <a:ext cx="6526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8087"/>
          <p:cNvSpPr/>
          <p:nvPr/>
        </p:nvSpPr>
        <p:spPr>
          <a:xfrm>
            <a:off x="1042920" y="5445000"/>
            <a:ext cx="65268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87041" descr=""/>
          <p:cNvPicPr/>
          <p:nvPr/>
        </p:nvPicPr>
        <p:blipFill>
          <a:blip r:embed="rId1"/>
          <a:stretch/>
        </p:blipFill>
        <p:spPr>
          <a:xfrm>
            <a:off x="406440" y="728640"/>
            <a:ext cx="8362800" cy="2819520"/>
          </a:xfrm>
          <a:prstGeom prst="rect">
            <a:avLst/>
          </a:prstGeom>
          <a:ln w="0">
            <a:noFill/>
          </a:ln>
        </p:spPr>
      </p:pic>
      <p:pic>
        <p:nvPicPr>
          <p:cNvPr id="1454" name="图片 87042" descr=""/>
          <p:cNvPicPr/>
          <p:nvPr/>
        </p:nvPicPr>
        <p:blipFill>
          <a:blip r:embed="rId2"/>
          <a:stretch/>
        </p:blipFill>
        <p:spPr>
          <a:xfrm>
            <a:off x="426960" y="3621240"/>
            <a:ext cx="6181920" cy="714240"/>
          </a:xfrm>
          <a:prstGeom prst="rect">
            <a:avLst/>
          </a:prstGeom>
          <a:ln w="0">
            <a:noFill/>
          </a:ln>
        </p:spPr>
      </p:pic>
      <p:pic>
        <p:nvPicPr>
          <p:cNvPr id="1455" name="图片 87043" descr=""/>
          <p:cNvPicPr/>
          <p:nvPr/>
        </p:nvPicPr>
        <p:blipFill>
          <a:blip r:embed="rId3"/>
          <a:stretch/>
        </p:blipFill>
        <p:spPr>
          <a:xfrm>
            <a:off x="6877080" y="3860640"/>
            <a:ext cx="2076480" cy="1333800"/>
          </a:xfrm>
          <a:prstGeom prst="rect">
            <a:avLst/>
          </a:prstGeom>
          <a:ln w="0">
            <a:noFill/>
          </a:ln>
        </p:spPr>
      </p:pic>
      <p:pic>
        <p:nvPicPr>
          <p:cNvPr id="1456" name="图片 87044" descr=""/>
          <p:cNvPicPr/>
          <p:nvPr/>
        </p:nvPicPr>
        <p:blipFill>
          <a:blip r:embed="rId4"/>
          <a:stretch/>
        </p:blipFill>
        <p:spPr>
          <a:xfrm>
            <a:off x="406440" y="4383000"/>
            <a:ext cx="5867280" cy="2305080"/>
          </a:xfrm>
          <a:prstGeom prst="rect">
            <a:avLst/>
          </a:prstGeom>
          <a:ln w="0">
            <a:noFill/>
          </a:ln>
        </p:spPr>
      </p:pic>
      <p:sp>
        <p:nvSpPr>
          <p:cNvPr id="1457" name="矩形 87045"/>
          <p:cNvSpPr/>
          <p:nvPr/>
        </p:nvSpPr>
        <p:spPr>
          <a:xfrm>
            <a:off x="950760" y="2262240"/>
            <a:ext cx="614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87046"/>
          <p:cNvSpPr/>
          <p:nvPr/>
        </p:nvSpPr>
        <p:spPr>
          <a:xfrm>
            <a:off x="4797360" y="3611520"/>
            <a:ext cx="642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87047"/>
          <p:cNvSpPr/>
          <p:nvPr/>
        </p:nvSpPr>
        <p:spPr>
          <a:xfrm>
            <a:off x="3635280" y="4005360"/>
            <a:ext cx="7858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86017" descr=""/>
          <p:cNvPicPr/>
          <p:nvPr/>
        </p:nvPicPr>
        <p:blipFill>
          <a:blip r:embed="rId1"/>
          <a:stretch/>
        </p:blipFill>
        <p:spPr>
          <a:xfrm>
            <a:off x="385920" y="1471680"/>
            <a:ext cx="8372160" cy="3914640"/>
          </a:xfrm>
          <a:prstGeom prst="rect">
            <a:avLst/>
          </a:prstGeom>
          <a:ln w="0">
            <a:noFill/>
          </a:ln>
        </p:spPr>
      </p:pic>
      <p:sp>
        <p:nvSpPr>
          <p:cNvPr id="1461" name="矩形 86018"/>
          <p:cNvSpPr/>
          <p:nvPr/>
        </p:nvSpPr>
        <p:spPr>
          <a:xfrm>
            <a:off x="2360520" y="2252520"/>
            <a:ext cx="4334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86019"/>
          <p:cNvSpPr/>
          <p:nvPr/>
        </p:nvSpPr>
        <p:spPr>
          <a:xfrm>
            <a:off x="900000" y="3429000"/>
            <a:ext cx="6620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86020"/>
          <p:cNvSpPr/>
          <p:nvPr/>
        </p:nvSpPr>
        <p:spPr>
          <a:xfrm>
            <a:off x="5435640" y="4581360"/>
            <a:ext cx="6620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86021"/>
          <p:cNvSpPr/>
          <p:nvPr/>
        </p:nvSpPr>
        <p:spPr>
          <a:xfrm>
            <a:off x="684360" y="5013360"/>
            <a:ext cx="880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86022"/>
          <p:cNvSpPr/>
          <p:nvPr/>
        </p:nvSpPr>
        <p:spPr>
          <a:xfrm>
            <a:off x="2268360" y="5013360"/>
            <a:ext cx="26244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84993" descr=""/>
          <p:cNvPicPr/>
          <p:nvPr/>
        </p:nvPicPr>
        <p:blipFill>
          <a:blip r:embed="rId1"/>
          <a:stretch/>
        </p:blipFill>
        <p:spPr>
          <a:xfrm>
            <a:off x="561960" y="1104840"/>
            <a:ext cx="8020080" cy="4648320"/>
          </a:xfrm>
          <a:prstGeom prst="rect">
            <a:avLst/>
          </a:prstGeom>
          <a:ln w="0">
            <a:noFill/>
          </a:ln>
        </p:spPr>
      </p:pic>
      <p:sp>
        <p:nvSpPr>
          <p:cNvPr id="1467" name="矩形 84994"/>
          <p:cNvSpPr/>
          <p:nvPr/>
        </p:nvSpPr>
        <p:spPr>
          <a:xfrm>
            <a:off x="7742160" y="2328840"/>
            <a:ext cx="51912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83971" descr=""/>
          <p:cNvPicPr/>
          <p:nvPr/>
        </p:nvPicPr>
        <p:blipFill>
          <a:blip r:embed="rId1"/>
          <a:stretch/>
        </p:blipFill>
        <p:spPr>
          <a:xfrm>
            <a:off x="506520" y="650880"/>
            <a:ext cx="7972200" cy="95256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83972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5105520" cy="3902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83973" descr=""/>
          <p:cNvPicPr/>
          <p:nvPr/>
        </p:nvPicPr>
        <p:blipFill>
          <a:blip r:embed="rId3"/>
          <a:stretch/>
        </p:blipFill>
        <p:spPr>
          <a:xfrm>
            <a:off x="479520" y="2212920"/>
            <a:ext cx="7991280" cy="2762280"/>
          </a:xfrm>
          <a:prstGeom prst="rect">
            <a:avLst/>
          </a:prstGeom>
          <a:ln w="0">
            <a:noFill/>
          </a:ln>
        </p:spPr>
      </p:pic>
      <p:pic>
        <p:nvPicPr>
          <p:cNvPr id="1471" name="图片 83974" descr=""/>
          <p:cNvPicPr/>
          <p:nvPr/>
        </p:nvPicPr>
        <p:blipFill>
          <a:blip r:embed="rId4"/>
          <a:stretch/>
        </p:blipFill>
        <p:spPr>
          <a:xfrm>
            <a:off x="863640" y="5126040"/>
            <a:ext cx="7562880" cy="1571760"/>
          </a:xfrm>
          <a:prstGeom prst="rect">
            <a:avLst/>
          </a:prstGeom>
          <a:ln w="0">
            <a:noFill/>
          </a:ln>
        </p:spPr>
      </p:pic>
      <p:sp>
        <p:nvSpPr>
          <p:cNvPr id="1472" name="矩形 83975"/>
          <p:cNvSpPr/>
          <p:nvPr/>
        </p:nvSpPr>
        <p:spPr>
          <a:xfrm>
            <a:off x="7740720" y="692280"/>
            <a:ext cx="51912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83976"/>
          <p:cNvSpPr/>
          <p:nvPr/>
        </p:nvSpPr>
        <p:spPr>
          <a:xfrm>
            <a:off x="7667640" y="2781360"/>
            <a:ext cx="51912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82945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29800" cy="5257800"/>
          </a:xfrm>
          <a:prstGeom prst="rect">
            <a:avLst/>
          </a:prstGeom>
          <a:ln w="0">
            <a:noFill/>
          </a:ln>
        </p:spPr>
      </p:pic>
      <p:sp>
        <p:nvSpPr>
          <p:cNvPr id="1475" name="矩形 82946"/>
          <p:cNvSpPr/>
          <p:nvPr/>
        </p:nvSpPr>
        <p:spPr>
          <a:xfrm>
            <a:off x="7732800" y="3186000"/>
            <a:ext cx="51912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8192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402912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81922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1771560" cy="2210040"/>
          </a:xfrm>
          <a:prstGeom prst="rect">
            <a:avLst/>
          </a:prstGeom>
          <a:ln w="0">
            <a:noFill/>
          </a:ln>
        </p:spPr>
      </p:pic>
      <p:sp>
        <p:nvSpPr>
          <p:cNvPr id="1478" name="矩形 81923"/>
          <p:cNvSpPr/>
          <p:nvPr/>
        </p:nvSpPr>
        <p:spPr>
          <a:xfrm>
            <a:off x="7761240" y="1909800"/>
            <a:ext cx="51912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81924"/>
          <p:cNvSpPr/>
          <p:nvPr/>
        </p:nvSpPr>
        <p:spPr>
          <a:xfrm>
            <a:off x="7524720" y="3716280"/>
            <a:ext cx="7873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80897" descr=""/>
          <p:cNvPicPr/>
          <p:nvPr/>
        </p:nvPicPr>
        <p:blipFill>
          <a:blip r:embed="rId1"/>
          <a:stretch/>
        </p:blipFill>
        <p:spPr>
          <a:xfrm>
            <a:off x="331920" y="1260360"/>
            <a:ext cx="7943760" cy="362160"/>
          </a:xfrm>
          <a:prstGeom prst="rect">
            <a:avLst/>
          </a:prstGeom>
          <a:ln w="0">
            <a:noFill/>
          </a:ln>
        </p:spPr>
      </p:pic>
      <p:pic>
        <p:nvPicPr>
          <p:cNvPr id="1481" name="图片 80898" descr=""/>
          <p:cNvPicPr/>
          <p:nvPr/>
        </p:nvPicPr>
        <p:blipFill>
          <a:blip r:embed="rId2"/>
          <a:stretch/>
        </p:blipFill>
        <p:spPr>
          <a:xfrm>
            <a:off x="901800" y="1681200"/>
            <a:ext cx="73818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2:28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